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2FEF-D0E3-491C-8FE9-AA3FFF39D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5D0D-CDAF-4A13-81CF-482C51698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BE2A-C623-499F-BF11-CC09A5087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9BD6-3360-4E18-8397-86C3EF7FC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EFBB-67F4-44B4-AA89-ABE5B8B11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DCB1-F887-42DC-A1DD-5570D3D6F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3BB2-12FC-41EF-B905-57BEB4F24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FDA2-3E43-44E5-A7EB-454D72FB5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B12C-63DE-4661-9564-236447A85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7F7B-762C-4D99-A7DA-65BAC94E8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DE74-82EB-4EA7-89B6-EB9491747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08CA-8128-44C6-93BF-2116D2067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53B2-9EF9-41CD-8F25-DCF4B7E02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B70C-1678-4F6F-A635-F32FBA5B9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7FFF-0E41-4428-BD1D-C35AA008C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6CA2-79A0-4765-9ECD-2B699CBCB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4E16-61E8-4842-87C8-4BD57B95F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C7E3-ECD7-4B89-97B3-7622DDD7D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C938-6B84-4063-95DC-A7618373C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1C07-A821-41D8-BA22-078779168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603E-B0A0-427A-A6B8-E8C981CA7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4222-63B1-4DB5-8340-46D0365EE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3F43-7316-40C6-9326-1B91FF3D8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5F4-DDF2-419B-9A47-7CC5C080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839040"/>
            <a:ext cx="7925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413-434D-4E69-A8A7-C31C29F9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2DD-A011-4937-A460-322BA776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C6D-7E4E-465D-8E5E-AA86E469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DE7-12B1-48F4-8F21-3DEA71D3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086C-033D-40DD-90E1-3D774302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B01-CF50-4F5B-875B-53BF37D7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7CD-4D07-4D5E-90FB-A5293B82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6FC-258A-442F-8023-1C9A9857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116-A4C2-411F-B068-F8E17A54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543-2E9F-4B8E-8DDE-0761B95A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7925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3A93-2E8F-490B-8F01-AA0769B6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4422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2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116F-D0E2-4918-B32E-CBA251952B48}" type="slidenum">
              <a:rPr b="0" lang="en-US" sz="1400" spc="-1" strike="noStrike">
                <a:solidFill>
                  <a:srgbClr val="4422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Professional Learning Communities at Work </a:t>
            </a:r>
            <a:br>
              <a:rPr sz="4400"/>
            </a:br>
            <a:r>
              <a:rPr b="0" lang="en-US" sz="4000" spc="-1" strike="noStrike">
                <a:solidFill>
                  <a:srgbClr val="442200"/>
                </a:solidFill>
                <a:latin typeface="Times New Roman"/>
              </a:rPr>
              <a:t>Best Practices for Enhancing Student Achievement</a:t>
            </a:r>
            <a:endParaRPr b="0" lang="en-US" sz="40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38858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By Richard DuFour and Robert Eaker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Sustaining School Improvement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ollaboration embedded into daily life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2200"/>
                </a:solidFill>
                <a:latin typeface="Times New Roman"/>
              </a:rPr>
              <a:t>Purposeful</a:t>
            </a:r>
            <a:endParaRPr b="0" lang="en-US" sz="24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2200"/>
                </a:solidFill>
                <a:latin typeface="Times New Roman"/>
              </a:rPr>
              <a:t>Structured</a:t>
            </a:r>
            <a:endParaRPr b="0" lang="en-US" sz="24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2200"/>
                </a:solidFill>
                <a:latin typeface="Times New Roman"/>
              </a:rPr>
              <a:t>Facilitated</a:t>
            </a:r>
            <a:endParaRPr b="0" lang="en-US" sz="24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ducators must be trained to be effective collaborator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Individually and collectively work as true professional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Embedding Change in School Culture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Protecting shared value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ngaging in reflective dialogue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elebrating shared values &amp; progres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urricular Focu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ollaborative adoption proces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Research based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ffective unit plan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Appropriate assessment model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ommitment to continuous improvement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Role of the Principal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Lead through shared vision and value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Model vision and value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Shared decision making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reate collaborative structure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ocus on learning rather than teaching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Be fixated on result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4827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Role of the Parent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Parental Involvement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Significant to success of student achievement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Greater involvement </a:t>
            </a:r>
            <a:r>
              <a:rPr b="1" lang="en-US" sz="2800" spc="-1" strike="noStrike">
                <a:solidFill>
                  <a:srgbClr val="4422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 greater achievement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Translates into positive attitudes and behaviors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Significant at any age of student development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background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Role of Parent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Parents as Partner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Communication between parent, school, student is dynamic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Advocates for change within community and school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Parenting skills are promoted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Parents become valuable volunteers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Share in decision making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Teaching in a Professional Learning Community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mphasis on learning rather than teaching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mphasize active student engagement with significant content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ocus on student performance and production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ollaborate with colleague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Teachers are students of teaching and consumers of research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unction as leader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Staff Development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ontent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Proces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ontext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ontent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Research based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ocuses on generic and discipline specific teaching skill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xpands repertoire to meet student need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Proces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Attentive to the tenets of good teaching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oaching and supporting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Results in reflection and dialogue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Sustainable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valuated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28" descr=""/>
          <p:cNvPicPr/>
          <p:nvPr/>
        </p:nvPicPr>
        <p:blipFill>
          <a:blip r:embed="rId1"/>
          <a:stretch/>
        </p:blipFill>
        <p:spPr>
          <a:xfrm>
            <a:off x="838080" y="0"/>
            <a:ext cx="758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ontext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ocused on school, supported by district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mbedded in daily work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oster renewal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Individual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Organizational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The bottom line is that there is just no way to create good schools without good teachers.”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422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442200"/>
                </a:solidFill>
                <a:latin typeface="Times New Roman"/>
              </a:rPr>
              <a:t>National Commission on Teaching and America’s Future, 1996</a:t>
            </a:r>
            <a:endParaRPr b="0" lang="en-US" sz="18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About the Author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Richard DuFour, Ed.D.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2200"/>
                </a:solidFill>
                <a:latin typeface="Times New Roman"/>
              </a:rPr>
              <a:t>Superintendent of Adlai Stevenson High School District 125</a:t>
            </a:r>
            <a:endParaRPr b="0" lang="en-US" sz="24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2200"/>
                </a:solidFill>
                <a:latin typeface="Times New Roman"/>
              </a:rPr>
              <a:t>Distinguished alumni award Illinois State University</a:t>
            </a:r>
            <a:endParaRPr b="0" lang="en-US" sz="24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Robert Eaker, Ed.D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2200"/>
                </a:solidFill>
                <a:latin typeface="Times New Roman"/>
              </a:rPr>
              <a:t>Dean of College of Education at Middle Tennessee State University</a:t>
            </a:r>
            <a:endParaRPr b="0" lang="en-US" sz="24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2200"/>
                </a:solidFill>
                <a:latin typeface="Times New Roman"/>
              </a:rPr>
              <a:t>Consultant on school improvement</a:t>
            </a:r>
            <a:endParaRPr b="0" lang="en-US" sz="24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Co-authored </a:t>
            </a:r>
            <a:r>
              <a:rPr b="0" lang="en-US" sz="2800" spc="-1" strike="noStrike" u="sng">
                <a:solidFill>
                  <a:srgbClr val="442200"/>
                </a:solidFill>
                <a:uFillTx/>
                <a:latin typeface="Times New Roman"/>
              </a:rPr>
              <a:t>Creating the New American School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62120" y="62485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art design by Charles Neumeyer &amp; Grannan Graphic Design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42200"/>
                </a:solidFill>
                <a:latin typeface="Times New Roman"/>
              </a:rPr>
              <a:t>Where do we begin?</a:t>
            </a:r>
            <a:endParaRPr b="0" lang="en-US" sz="60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omplexity of the Change Proces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Recognizing how difficult change really is!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Mission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Why do we exist?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Why are we doing what we’re doing?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What is it exactly we expect children to learn?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How do we… 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respond when children do not learn?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fulfill our collective responsibility to ensure that learning takes place for all students?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Vision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What do we hope to become?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Motivates and energize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reates proactive orientation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Gives direction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stablishes standards of excellence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reates clear agenda for action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Value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How must we behave in order to make shared vision a reality?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Value Statement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Few in number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Linked to the vision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Focused on behavior not beliefs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Focused on self rather than others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Which steps will we take first and when?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Visions may inspire, but goals foster ongoing accountability.” </a:t>
            </a:r>
            <a:r>
              <a:rPr b="0" lang="en-US" sz="2000" spc="-1" strike="noStrike">
                <a:solidFill>
                  <a:srgbClr val="442200"/>
                </a:solidFill>
                <a:latin typeface="Times New Roman"/>
              </a:rPr>
              <a:t>(page 100)</a:t>
            </a:r>
            <a:endParaRPr b="0" lang="en-US" sz="20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ffective goals specify…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What is to be accomplished?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Actions to achieve goals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Responsible party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Timeline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Evaluation criteria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ommon Mistake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Too much complacency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ailing to create a strong leadership team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Underestimate the power of the vision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ailing to create short term win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Neglecting to anchor change in culture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2:52:49Z</dcterms:created>
  <dc:creator>calexand</dc:creator>
  <dc:description/>
  <dc:language>en-US</dc:language>
  <cp:lastModifiedBy>AEURY</cp:lastModifiedBy>
  <dcterms:modified xsi:type="dcterms:W3CDTF">2011-10-31T15:03:05Z</dcterms:modified>
  <cp:revision>27</cp:revision>
  <dc:subject/>
  <dc:title>Professional Learning Communities at Work: Best Practices for Enhancing Student Achievement</dc:title>
</cp:coreProperties>
</file>